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150-4E01-43CE-81FD-9A32092E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CEE-2B57-466D-9017-B42E584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F6C-5FA3-4251-96E7-DB0AAE89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E21-6EB2-46A0-A26C-1C53C95E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461-8043-4152-8203-9A074B6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1E3-70D2-4E1E-8468-9343627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7D2-6871-44DD-8BB0-DC2C7D4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4FF-432A-4D3D-944C-E087126F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DE6-7D21-486F-AA48-8F6F4BB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57C-E913-4A70-BF72-8CCF9C8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6B4-1AF1-4F7B-990B-DB2952BC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F98-245A-4FD9-BD71-1003D0EA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AF7-8FD1-4A64-BAFF-125108223B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ἰμι ἀποστο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μονον δε, ἀλλ’ ἐγγιζομεν τῳ θεῳ δια του κυριου ἡμων Ἰησου Χριστου δι’ οὑ νυν την εἰρ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Δαυιδ λεγει ὁτι Μακαριος ἐστιν ὁ ἀνθρωπος ᾡ ὁ θεος λογιζεται δικαιοσυνην χωρις ἐργ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σμεν ἐν τῳ ἀληθινῳ, ἐν τῳ υἱῳ αὐτου Ἰησου Χριστῳ.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γεν δε ὁ Ἰησους∙ Ἀμην λεγω ὑμιν, πολλοι οὐκετι ἐχουσιν οἰκιαν ἠ ἀδελφ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 ἐλεγον ὁτι Οὑτος ἐ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ωρ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840" y="1085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6.3-6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ὗτός ἐστιν ὁ τέκ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ilder, carpenter, stonema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Joses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Ἰούδα καὶ Σίμω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mon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οὐκ εἰσὶν αἱ ἀδελφαὶ αὐτοῦ ὧδε πρὸς ἡμᾶ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σκανδαλίζον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y were scandal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ῷ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shonour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μ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πατρίδ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omel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καὶ ἐν τοῖς συγγενεῦσ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kinsm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καὶ ἐν τῇ οἰκίᾳ 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οὐκ ἐδύνα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wa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ῖ ποιῆσαι οὐδεμ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, none, no on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ύναμ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t of power, mira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εἰ μὴ ὀλίγ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 fe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ρώσ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ck, 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ying 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ς χεῖρ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nd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θεράπευσ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θαύμαζεν διὰ τὴν ἀπιστ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belie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ῶν. Καὶ περιῆγ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ς κώμ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villag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, round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9-02-25T23:36:28Z</dcterms:modified>
  <cp:revision>23</cp:revision>
  <dc:subject/>
  <dc:title>Slide 1</dc:title>
</cp:coreProperties>
</file>